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7DB-12FA-4D47-9491-BA447F56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9B2-2852-4077-B69B-BC2A3914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B1E-D4BB-4ECE-A034-7D41CFD9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137-377C-4437-B8E3-05D9CE8C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CD84-E25C-45A3-8B0E-EAFCF681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B700-051D-4C85-BFB0-B6E8A10A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BF1-BAF0-414B-861B-BCC2F358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1EF4-B764-4DF7-8814-8E3CBFAB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61AE-9BC2-4607-A546-4E401D82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392C-5853-4C96-9C59-2D74EE79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C2E3-258F-46B7-90A5-CF0CC549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287-9AB9-455B-95F0-AC3D144B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A8E7-C1F4-49EF-993C-7CE4483A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49BA-87FE-4094-BF1E-1DECEDDE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A448-5596-4FE3-A84A-17BD83C2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47CC-AD18-4CE8-A10D-690A4BDD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2CA4-3841-470D-9F0A-EC69CDB5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ECE-7042-4525-BCA5-FEACF9D3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555-88F8-4C9D-8C4F-45BEF165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722-BCBD-48EC-A041-07FCA626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2B7-6B33-4C4F-B454-E7790C20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2E0-EABB-43FD-BED7-9DB48132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3DE-4451-47AE-9D83-6DC4C997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320-7F15-4104-B7EE-1B3BA34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C96B-2D00-4802-A0DE-EFBA6A809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C6A6-32A1-4112-9236-E60F00641C0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3"/>
          <p:cNvSpPr/>
          <p:nvPr/>
        </p:nvSpPr>
        <p:spPr>
          <a:xfrm>
            <a:off x="4714920" y="333360"/>
            <a:ext cx="3722760" cy="1523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nmia tempus habet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 има своје време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а и фармација раног и развијеног средњег 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зантијск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рапск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настирск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лернска шк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коластичк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потеке 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кони цар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идрих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 (124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e materia me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Clavis sanation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Compendium aromat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Lumen apothecarior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1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а и фармација у средњовековној Срб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40384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рск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нон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окриф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тнофарма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ти Кузман и Дамњ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пик манастира Хиланд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ландарски медицински коде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пик манастира Студе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мчија Светог С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кони Цара Стефана Душ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а и фармација у време јачања грађанског друш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лериус Корд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кола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нард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олус Клузиј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офрастус Парацелз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мас Саденхај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4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а и фармација у грађанском друшт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воа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ртир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летије и Кав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р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с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нчи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4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д алхемије до генске 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енска терапија герминативних ћел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енска терапија соматских ћел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еини рекомбиновани генетичким инжењеринг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отехн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штински сличан – биолошки слич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5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libri"/>
              </a:rPr>
              <a:t>Solis medicis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4400" spc="-1" strike="noStrike">
                <a:solidFill>
                  <a:srgbClr val="000000"/>
                </a:solidFill>
                <a:latin typeface="Calibri"/>
              </a:rPr>
              <a:t>concessum est mendacium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уге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osef Mengele’s Twin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chau Studies – 1942-19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remberg Code – 19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eclaration of Helsin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uskegee Syphilis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Belmont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5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ilustracija1"/>
          <p:cNvPicPr/>
          <p:nvPr/>
        </p:nvPicPr>
        <p:blipFill>
          <a:blip r:embed="rId1"/>
          <a:stretch/>
        </p:blipFill>
        <p:spPr>
          <a:xfrm>
            <a:off x="4699080" y="0"/>
            <a:ext cx="44449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ilustracija17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чеци медицине и фарм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пириј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монистич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имистич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лигиозн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улети и тетовир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зновер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8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чка медицина и фарма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вилон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оегипат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ојевреј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оперсиј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оиндиј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окине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3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ароамеричка медицина и фарм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а и фармација Аст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а и фармација 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а и фармација М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8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арогрчка медицина и фармација пре Хипок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кле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Mahaon, Podali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педо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ократска медиц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orpus Hippocratic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Ars longa vita brevis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Succusio Hippocra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igiti Hippocra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acies Hippocra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0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рчка медицина и фармација после Хипок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сал, Дра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и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изи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о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офр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ни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те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7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имска медицина и фарм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а и фармација Етрушч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ea Salus, Car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олон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Apollo salutar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 Мар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нерва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Minerva medic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ea Febris, Mef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скулап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Aesculapi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укреције Кар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e natura rerum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3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дицинска филозофија и е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ментари античким медицинским дел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томија и физиолог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ука о пул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ете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толог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рм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шт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6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leksandar Kocovic</cp:lastModifiedBy>
  <dcterms:modified xsi:type="dcterms:W3CDTF">2020-09-28T10:59:12Z</dcterms:modified>
  <cp:revision>74</cp:revision>
  <dc:subject/>
  <dc:title>Slide 1</dc:title>
</cp:coreProperties>
</file>